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37693"/>
        <c:axId val="65643126"/>
      </c:barChart>
      <c:catAx>
        <c:axId val="82037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43126"/>
        <c:crosses val="autoZero"/>
        <c:auto val="1"/>
        <c:lblAlgn val="ctr"/>
        <c:lblOffset val="100"/>
        <c:noMultiLvlLbl val="0"/>
      </c:catAx>
      <c:valAx>
        <c:axId val="65643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37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FF5-9605-44FF-A953-A926D17F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AF2-8B05-4220-8155-673A5503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3EE-83D5-4524-B0B1-C99E26EC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777-7B1E-4D28-833A-EAAE436E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D5B-2284-40DF-AA32-922E2130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D69-4BE4-4818-A29D-483BC9EE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158-3F1A-476C-B3E3-D9F28E13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5EC-0ED9-4D04-9D53-DE8DC100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96F-B08A-4729-964C-1A54F0F1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EA3-E378-4EDF-AF47-7F26DE36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504-F710-4F77-A817-1CC58398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CFC-98F8-479D-80F1-F0DBD55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A790B-51C6-4090-9D36-B7151A6682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