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51326"/>
        <c:axId val="55228032"/>
      </c:barChart>
      <c:catAx>
        <c:axId val="98451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28032"/>
        <c:crosses val="autoZero"/>
        <c:auto val="1"/>
        <c:lblAlgn val="ctr"/>
        <c:lblOffset val="100"/>
        <c:noMultiLvlLbl val="0"/>
      </c:catAx>
      <c:valAx>
        <c:axId val="55228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51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CA2-CE82-4B36-9CC4-7696D700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864-137B-4484-9839-D581BD91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B3E-6197-41DC-B441-17E87453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C74-E57D-46E6-BF01-81102873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7F8-2641-48D4-9096-FE6F0D75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6C2-7338-4F04-916F-071F5336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7A1-06C4-4BA5-8E5E-2BE7B485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B8D-6880-43D4-A0E1-67B087E7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3E0-4F0E-46DC-B2A6-35DC8E7B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E59-D6E4-472D-8AA4-13493E8B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18F-CFB2-4DD3-AAB4-8DB73091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FDF-5876-4003-ACD5-CDCDC865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CEDB3-6DD5-4646-B0D1-0400AF3BCB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