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48369"/>
        <c:axId val="78249107"/>
      </c:barChart>
      <c:catAx>
        <c:axId val="43848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49107"/>
        <c:crosses val="autoZero"/>
        <c:auto val="1"/>
        <c:lblAlgn val="ctr"/>
        <c:lblOffset val="100"/>
        <c:noMultiLvlLbl val="0"/>
      </c:catAx>
      <c:valAx>
        <c:axId val="78249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48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983-3728-4E1C-ABB1-A657ABB8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9CC-D6FC-4374-8D3C-C72888DE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BA1-5962-4C84-94ED-EFB98443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E09-5750-4E6F-9D0D-8ECDF92C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C2E-5F9C-4119-AA97-9B150F57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5B5-4DB7-4E52-8076-5FAA4C71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7DF-5059-4870-9016-99B26C3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E5D-112E-4950-BA19-B7EEC9A3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D30-ADA5-4B28-A4F0-F97C3FB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674-8D33-46F3-B8BC-E49256B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785-CE6E-469A-B3C1-7C13F53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EFC-0E38-446B-89F8-015CA3A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4DC34-7CA4-40D3-AA18-C4470FB43B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