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770709"/>
        <c:axId val="24939240"/>
      </c:barChart>
      <c:catAx>
        <c:axId val="727707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939240"/>
        <c:crosses val="autoZero"/>
        <c:auto val="1"/>
        <c:lblAlgn val="ctr"/>
        <c:lblOffset val="100"/>
        <c:noMultiLvlLbl val="0"/>
      </c:catAx>
      <c:valAx>
        <c:axId val="249392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7707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E4B4-8C58-490E-AC79-0D1C41636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5F87-5772-47E4-9DFC-95458A66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A395-CE0B-4431-87A1-4378D014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3964-65DD-4BDD-8BC2-D040EDCF6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AEC2-9B29-4C27-A03D-51990CF5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D7AD-4D1E-45C7-8CCD-CC01C1F6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3845-16E8-406E-BDE0-2DF86EC4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151F-8ABE-483B-A41E-EA7D61C9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4602-3842-4600-B68F-E0A5667D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3153-5087-44F1-B35C-0790001A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5B87-45E0-43AA-A76A-5FC6B1D4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6B53-B6B0-4935-ABF6-49384043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52CD8-A2C6-4F01-BD3F-58D32770E1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